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69FEA-0FAD-4570-B1D0-CE9020D57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99F40-0CDD-40DA-9F68-F50ABB31B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CB661-651A-476D-AC60-AE86E0CC1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59F74-2B50-47E8-865F-4FD29F3B4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BFD10-EB3C-477C-806F-E877721A6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7C523-748E-4F08-A835-4957BCC19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A7A28-AE62-4C4E-8FA4-0260EB7B8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78AE5-14E5-45C9-80E3-D07B309CB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EB6F1-7789-49EB-A516-EA42BCB71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E39B-5D7E-4DC6-8447-4DBAD01D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561AB-1205-4133-920A-394C2A182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124E-CE86-4CC6-8DAF-155E1352B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A600-80CD-4EB7-8ED7-3CD3B471E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entralized approach to innovation</a:t>
            </a:r>
            <a:endParaRPr b="0" lang="en-US" sz="4000" spc="-1" strike="noStrike">
              <a:solidFill>
                <a:srgbClr val="000000"/>
              </a:solidFill>
              <a:latin typeface="Arial"/>
            </a:endParaRPr>
          </a:p>
        </p:txBody>
      </p:sp>
      <p:sp>
        <p:nvSpPr>
          <p:cNvPr id="42"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orytelling has taken the centralized approach to technology innovation. Its approach has a collectivity of technical experts devoted to improving the quality of the technology and shares the coordinated efforts at technology transfer. Digital storytelling can reach the masses with more implementation in all classroom settings. Even big corporations and other settings could benefit greatly from digital storytelling. They could share their company history or create proposals in a unique way.</a:t>
            </a:r>
            <a:endParaRPr b="0" lang="en-US" sz="2000" spc="-1" strike="noStrike">
              <a:solidFill>
                <a:srgbClr val="000000"/>
              </a:solidFill>
              <a:latin typeface="Arial"/>
            </a:endParaRPr>
          </a:p>
        </p:txBody>
      </p:sp>
      <p:pic>
        <p:nvPicPr>
          <p:cNvPr id="43" name="Picture 5" descr="collaborate-communicate-con"/>
          <p:cNvPicPr/>
          <p:nvPr/>
        </p:nvPicPr>
        <p:blipFill>
          <a:blip r:embed="rId1"/>
          <a:stretch/>
        </p:blipFill>
        <p:spPr>
          <a:xfrm>
            <a:off x="304920" y="3486240"/>
            <a:ext cx="8381880" cy="33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agents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uld choose one teacher from each grade level in my school and the technology teacher to assist me in providing concrete evidence that digital storytelling should be adopted by my entire county and in every classroo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6" name="Picture 5" descr="http://ll-media.essence.com/archive/black-male-teacher.jpg"/>
          <p:cNvPicPr/>
          <p:nvPr/>
        </p:nvPicPr>
        <p:blipFill>
          <a:blip r:embed="rId1"/>
          <a:stretch/>
        </p:blipFill>
        <p:spPr>
          <a:xfrm>
            <a:off x="2133720" y="4038480"/>
            <a:ext cx="4981320" cy="24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nge Agen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s a perceived need for change,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s an information exchange relationship (credibility),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es problems,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s intent to change in the clien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s intent into action,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ilizes adoption and prevents discontinuance, achieves a terminal relation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nge Agent</a:t>
            </a:r>
            <a:endParaRPr b="0" lang="en-US" sz="4400" spc="-1" strike="noStrike">
              <a:solidFill>
                <a:srgbClr val="000000"/>
              </a:solidFill>
              <a:latin typeface="Arial"/>
            </a:endParaRPr>
          </a:p>
        </p:txBody>
      </p:sp>
      <p:sp>
        <p:nvSpPr>
          <p:cNvPr id="50"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torytelling meets every criteria of a change. It especially establishes credibility by providing examples of stories that have been created.  These examples will represent a way to preserve stories and create new ones. It will also grow as businesses see the benefits and realize the need to change.</a:t>
            </a:r>
            <a:endParaRPr b="0" lang="en-US" sz="2800" spc="-1" strike="noStrike">
              <a:solidFill>
                <a:srgbClr val="000000"/>
              </a:solidFill>
              <a:latin typeface="Arial"/>
            </a:endParaRPr>
          </a:p>
        </p:txBody>
      </p:sp>
      <p:pic>
        <p:nvPicPr>
          <p:cNvPr id="51" name="Picture 5" descr="http://ozgekaraoglu.edublogs.org/files/2009/11/311.png"/>
          <p:cNvPicPr/>
          <p:nvPr/>
        </p:nvPicPr>
        <p:blipFill>
          <a:blip r:embed="rId1"/>
          <a:stretch/>
        </p:blipFill>
        <p:spPr>
          <a:xfrm>
            <a:off x="1295280" y="4267080"/>
            <a:ext cx="6810480" cy="259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Mas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storytelling has met critical mass in education due to the demands nationally and internatioanlly for workshops and training programs in 199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still stand some progression in the business world because it is suitable for that environment as w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Class Examp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Cosby Classroom-Booker T Washington.m4v" descr=""/>
          <p:cNvPicPr/>
          <p:nvPr/>
        </p:nvPicPr>
        <p:blipFill>
          <a:blip r:embed="rId1"/>
          <a:stretch/>
        </p:blipFill>
        <p:spPr>
          <a:xfrm>
            <a:off x="457200" y="1600200"/>
            <a:ext cx="8305920" cy="4495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6"/>
                    </p:tgtEl>
                  </p:cond>
                </p:stCondLst>
                <p:childTnLst>
                  <p:par>
                    <p:cTn id="3" fill="hold">
                      <p:stCondLst>
                        <p:cond evt="onClick">
                          <p:tgtEl>
                            <p:spTgt spid="5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9:52:34Z</dcterms:created>
  <dc:creator>Teacher</dc:creator>
  <dc:description/>
  <dc:language>en-US</dc:language>
  <cp:lastModifiedBy>User</cp:lastModifiedBy>
  <dcterms:modified xsi:type="dcterms:W3CDTF">2012-04-27T01:01:05Z</dcterms:modified>
  <cp:revision>10</cp:revision>
  <dc:subject/>
  <dc:title>Centralized approach to innovation</dc:title>
</cp:coreProperties>
</file>